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2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0.png" ContentType="image/pn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944-09BD-4772-919E-E37BEBAA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50C-CC76-484C-9725-C3639A4B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AD4-F4BD-423B-AB72-5FD13AFC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CC0-DD09-47CA-8CF4-3AB0A5C1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4A1-00CF-459D-B57B-34F84EEC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314-530A-4501-A7B0-54902EB0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66A-F91C-4913-883E-D7B6817D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405-72B9-497A-842F-57C00900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1E4A-6E56-4B67-B79A-FF6EE846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C8F-2233-412A-89A1-35846787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F7F-8A28-4668-A31D-210C2D8C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48F-DB85-48A1-90C2-1BE77444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C265-4A7B-413F-B038-A86049DF4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litres.ru/lev-tolstoy/vse-luchshie-skazki-i-rasskazy-2/chitat-onlay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974880" y="420840"/>
            <a:ext cx="7931160" cy="1974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468360" y="189000"/>
            <a:ext cx="842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питание человека начинается в семье. Именно здесь он получает первые уроки доброты, уважения и поддержки. На Руси в давние времена в любой семье слово старших членов семьи являлось законом для остальных. Тогда, как правило, бабушки и дедушки жили в семье, а не отдельно, поэтому к их жизненному опыту, мудрости прислушивались все, так как они прожили долгую жизнь. Но случалось и по-другому, как в  рассказ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fs00.infourok.ru/images/doc/159/183313/img8.jpg"/>
          <p:cNvPicPr/>
          <p:nvPr/>
        </p:nvPicPr>
        <p:blipFill>
          <a:blip r:embed="rId2"/>
          <a:stretch/>
        </p:blipFill>
        <p:spPr>
          <a:xfrm>
            <a:off x="2700360" y="2637000"/>
            <a:ext cx="4464000" cy="40417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611280" y="33336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ому  понравилась басн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Чем  понравилась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Назовите   действующие  лица  в этой  бас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fs00.infourok.ru/images/doc/159/183313/img2.jpg"/>
          <p:cNvPicPr/>
          <p:nvPr/>
        </p:nvPicPr>
        <p:blipFill>
          <a:blip r:embed="rId2"/>
          <a:stretch/>
        </p:blipFill>
        <p:spPr>
          <a:xfrm>
            <a:off x="1619280" y="1773360"/>
            <a:ext cx="6238800" cy="48956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95280" y="26028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лоха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– деревянная  чашк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невестка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жена  сын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слаживае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- склады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брани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руг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Л Толстой Старый дед и внучек"/>
          <p:cNvPicPr/>
          <p:nvPr/>
        </p:nvPicPr>
        <p:blipFill>
          <a:blip r:embed="rId2"/>
          <a:stretch/>
        </p:blipFill>
        <p:spPr>
          <a:xfrm>
            <a:off x="5292720" y="2095560"/>
            <a:ext cx="3483000" cy="43988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611280" y="18900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Чему учит этот расска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те  в тексте  предложения, почему  дедушку  не  сажали  за  стол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Что  сделала  невестка, когда  дед  разбил  чашку  с едой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Зачем Миша  делал  лохань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Почему  родители  Миши  заплак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Файл:Старый дед и внучек. Сказки Толстого. Басни Толстого1.jpg"/>
          <p:cNvPicPr/>
          <p:nvPr/>
        </p:nvPicPr>
        <p:blipFill>
          <a:blip r:embed="rId2"/>
          <a:stretch/>
        </p:blipFill>
        <p:spPr>
          <a:xfrm>
            <a:off x="4687920" y="3141720"/>
            <a:ext cx="4100400" cy="3600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rumvi.com/products/ebook/%D0%B2%D1%81%D0%B5-%D0%BB%D1%83%D1%87%D1%88%D0%B8%D0%B5-%D1%81%D0%BA%D0%B0%D0%B7%D0%BA%D0%B8-%D0%B8-%D1%80%D0%B0%D1%81%D1%81%D0%BA%D0%B0%D0%B7%D1%8B/1d6f4f59-d309-4c20-8487-cfe4e7c899df/preview/i_007.png"/>
          <p:cNvPicPr/>
          <p:nvPr/>
        </p:nvPicPr>
        <p:blipFill>
          <a:blip r:embed="rId2"/>
          <a:stretch/>
        </p:blipFill>
        <p:spPr>
          <a:xfrm>
            <a:off x="1476360" y="907920"/>
            <a:ext cx="6821640" cy="57358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3" name="TextBox 2"/>
          <p:cNvSpPr/>
          <p:nvPr/>
        </p:nvSpPr>
        <p:spPr>
          <a:xfrm>
            <a:off x="552960" y="189000"/>
            <a:ext cx="588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бери отрывки из басни к иллюстра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www.litres.ru/static/bookimages/07/13/90/07139043.bin.dir/h/i_008.png"/>
          <p:cNvPicPr/>
          <p:nvPr/>
        </p:nvPicPr>
        <p:blipFill>
          <a:blip r:embed="rId2"/>
          <a:stretch/>
        </p:blipFill>
        <p:spPr>
          <a:xfrm>
            <a:off x="468360" y="1341360"/>
            <a:ext cx="8085240" cy="4808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Файл:Старый дед и внучек. Сказки Толстого. Басни Толстого1.jpg"/>
          <p:cNvPicPr/>
          <p:nvPr/>
        </p:nvPicPr>
        <p:blipFill>
          <a:blip r:embed="rId2"/>
          <a:stretch/>
        </p:blipFill>
        <p:spPr>
          <a:xfrm>
            <a:off x="1403280" y="549360"/>
            <a:ext cx="6953400" cy="61038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2"/>
          <p:cNvSpPr/>
          <p:nvPr/>
        </p:nvSpPr>
        <p:spPr>
          <a:xfrm>
            <a:off x="395280" y="2205000"/>
            <a:ext cx="835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ШЛИ СОРОК МЫШЕЙ НЕСЛИ СОРОК ГРОШЕ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Е МЫШИ ПОПЛОШЕ НЕСЛИ ПО ДВА ГРОШ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1384200" y="60480"/>
            <a:ext cx="6448680" cy="1152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50920" y="386064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   солнышке   тепло ….     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…  детки же и гор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 лучше  дружка ….              …   и душа  на  мест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я  семья  вместе   ….           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…    тот  век  не  погибае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то  родителей  почитает…    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…  при  матери  добр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ки  радость  …..                  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 ….   чем  родная   мат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468360" y="189000"/>
            <a:ext cx="867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низу  написаны   пословицы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  только  в одной строчке  начало  одной пословицы, а конец – другой.  Ваша  задача: соединить  начало  и конец  пословиц, чтобы получились  верные  высказыван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395280" y="476280"/>
            <a:ext cx="58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каким писателем мы сегодня познакоми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-Какой рассказ мы прочит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Какая главная мысль расска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-Чему научил вас этот расска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А возникли ли у вас вопросы к писател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468360" y="3860640"/>
            <a:ext cx="504036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Для кого все-таки больше написан этот рассказ – для родителей или для дете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для родителей, тогда зачем вы, дети, должны его читать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1619280" y="2205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litres.ru/lev-tolstoy/vse-luchshie-skazki-i-rasskazy-2/chitat-onlay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95280" y="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читайте жужжащим чт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читайте с удивлением, сердито, весело, с вопросительной интон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читайте чётко и быст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468360" y="1989000"/>
            <a:ext cx="86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В лесу живёт лось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А в реке плывёт лосос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У лося в лесу лося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У лосося — лососята</a:t>
            </a:r>
            <a:r>
              <a:rPr b="1" lang="ru-RU" sz="54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rybalka.ru/sites/default/files/12.08/fish/main/129108-17567.jpg?1345097012"/>
          <p:cNvPicPr/>
          <p:nvPr/>
        </p:nvPicPr>
        <p:blipFill>
          <a:blip r:embed="rId2"/>
          <a:stretch/>
        </p:blipFill>
        <p:spPr>
          <a:xfrm>
            <a:off x="826920" y="5353200"/>
            <a:ext cx="3313440" cy="1504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cdn01.ru/files/users/images/d6/d0/d6d0365e7a59b9f949a726e8da7bdb60.jpg"/>
          <p:cNvPicPr/>
          <p:nvPr/>
        </p:nvPicPr>
        <p:blipFill>
          <a:blip r:embed="rId3"/>
          <a:stretch/>
        </p:blipFill>
        <p:spPr>
          <a:xfrm>
            <a:off x="6845400" y="836640"/>
            <a:ext cx="2023920" cy="216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492360" y="2421000"/>
            <a:ext cx="543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меня есть ма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меня есть пап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меня есть дедуш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меня есть бабуш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у них есть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то это?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 ком будем читать рассказ?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2843280" y="544500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дем учиться понимать прочита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ься выразительно и правильно чит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ься правильно и грамотно гово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4572000" y="2133720"/>
            <a:ext cx="42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мотритесь внимательно в лицо писа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м вы представляете себе этого человека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://obretenie.info/txt/tolstoy/nb_pinacoteca_kramskoy_port.jpg"/>
          <p:cNvPicPr/>
          <p:nvPr/>
        </p:nvPicPr>
        <p:blipFill>
          <a:blip r:embed="rId2"/>
          <a:stretch/>
        </p:blipFill>
        <p:spPr>
          <a:xfrm>
            <a:off x="828720" y="1968480"/>
            <a:ext cx="3664080" cy="60483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4359600" y="5373720"/>
            <a:ext cx="46029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Граф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Лев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Николаевич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611280" y="189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ев Николаевич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родился в 1828 году – почти 200 лет назад. А умер в 1910 году.  Он  прожил  82 года  и всю  свою жизнь  посвятил  литературе. Его книги  переведены  на многие  языки, их  читают  во всем 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http://bodystrong.info/assets/images/peoples/tolstoy/tolstoy_12.jpg"/>
          <p:cNvPicPr/>
          <p:nvPr/>
        </p:nvPicPr>
        <p:blipFill>
          <a:blip r:embed="rId2"/>
          <a:stretch/>
        </p:blipFill>
        <p:spPr>
          <a:xfrm>
            <a:off x="811080" y="1536840"/>
            <a:ext cx="7399440" cy="4943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189000"/>
            <a:ext cx="972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07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лстой   изучал  историю, музыку, рисование, медицину. Но самое главное, он  очень  любил  детей. В то время  было  ещё   очень мало  школ, дети бедных   людей  вообще  не  могли   учи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07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в Николаевич  открыл  в  ясной  Поляне  школу, написал  учебник  для  детей и сам  учил их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ic.pics.livejournal.com/lj_editor/37785718/1288841/1288841_original.jpg"/>
          <p:cNvPicPr/>
          <p:nvPr/>
        </p:nvPicPr>
        <p:blipFill>
          <a:blip r:embed="rId2"/>
          <a:stretch/>
        </p:blipFill>
        <p:spPr>
          <a:xfrm>
            <a:off x="468360" y="1989000"/>
            <a:ext cx="4552920" cy="28861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7" name="Picture 4" descr="http://www.forsfortuna.com/uploads/posts/2009-08/1249832517_29.jpg"/>
          <p:cNvPicPr/>
          <p:nvPr/>
        </p:nvPicPr>
        <p:blipFill>
          <a:blip r:embed="rId3"/>
          <a:stretch/>
        </p:blipFill>
        <p:spPr>
          <a:xfrm>
            <a:off x="4356000" y="3720960"/>
            <a:ext cx="4532400" cy="27846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4140360" y="765000"/>
            <a:ext cx="4787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смотря на то что Лев Толстой был графом, он очень любил крестьянских детишек. В своем имении Ясная Поляна он создал школу, в которой обучал реб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 Николаевич создал для детей «Азбуку», написал рассказы и басни, которые учили добру. Произведения Льва Толстого для взрослых знают не только у нас в стране, но и во многих зарубежных стран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 всего мира приезжали ко Льву Николаевичу писатели, художники, музыкан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ходили к нему за советом и простые люди, чаще всего крестьяне, были и ни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всем Толстой помогал и обязательно учил добру, состр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://www.runivers.ru/images/date/2009_november/10/l.jpg"/>
          <p:cNvPicPr/>
          <p:nvPr/>
        </p:nvPicPr>
        <p:blipFill>
          <a:blip r:embed="rId2"/>
          <a:stretch/>
        </p:blipFill>
        <p:spPr>
          <a:xfrm>
            <a:off x="539640" y="189000"/>
            <a:ext cx="3286080" cy="38098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0" name="Picture 6" descr="http://mistergid.ru/image/upload/2011-08-07/330026694634_1280855595_9.jpg"/>
          <p:cNvPicPr/>
          <p:nvPr/>
        </p:nvPicPr>
        <p:blipFill>
          <a:blip r:embed="rId3"/>
          <a:stretch/>
        </p:blipFill>
        <p:spPr>
          <a:xfrm>
            <a:off x="1163520" y="4145040"/>
            <a:ext cx="1835280" cy="4865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img15.nnm.me/0/7/3/e/f/8adec48ae187bdf7351a1c51bd3.jpg"/>
          <p:cNvPicPr/>
          <p:nvPr/>
        </p:nvPicPr>
        <p:blipFill>
          <a:blip r:embed="rId2"/>
          <a:stretch/>
        </p:blipFill>
        <p:spPr>
          <a:xfrm>
            <a:off x="539640" y="260280"/>
            <a:ext cx="4032360" cy="4032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" name="Picture 4" descr="http://go4.imgsmail.ru/imgpreview?key=69aed240ef2c6cff&amp;mb=imgdb_preview_140"/>
          <p:cNvPicPr/>
          <p:nvPr/>
        </p:nvPicPr>
        <p:blipFill>
          <a:blip r:embed="rId3"/>
          <a:stretch/>
        </p:blipFill>
        <p:spPr>
          <a:xfrm>
            <a:off x="6156360" y="260280"/>
            <a:ext cx="2776680" cy="42163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3" name="Picture 6" descr="http://www.libex.ru/dimg/43144.jpg"/>
          <p:cNvPicPr/>
          <p:nvPr/>
        </p:nvPicPr>
        <p:blipFill>
          <a:blip r:embed="rId4"/>
          <a:stretch/>
        </p:blipFill>
        <p:spPr>
          <a:xfrm>
            <a:off x="3708360" y="3068640"/>
            <a:ext cx="2766960" cy="3600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16:56:37Z</dcterms:created>
  <dc:creator>Еленга Берюхова</dc:creator>
  <dc:description/>
  <dc:language>en-US</dc:language>
  <cp:lastModifiedBy>Microsoft </cp:lastModifiedBy>
  <dcterms:modified xsi:type="dcterms:W3CDTF">2017-05-09T06:41:24Z</dcterms:modified>
  <cp:revision>9</cp:revision>
  <dc:subject/>
  <dc:title>Слайд 1</dc:title>
</cp:coreProperties>
</file>